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7DE9-EF29-419C-A8E5-DBFD243221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9E04-FC6A-4107-81F1-10BB30F8A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A36-10A9-4BDB-8F3B-678917CF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90B-6FC4-46AE-AFD2-AB5CA67B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CA0-9A98-43C3-9CA4-66CCACE8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DA4-B77D-43AE-B5FC-6B39C44F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079-5D3E-443D-9EF8-8F2C8508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FCF-72CC-4EA7-9D30-F3406441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5E9-DE78-4BE9-BE17-E91ADD82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4BA-9263-4BCA-9D1B-FD76F4E4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251-A6A2-43B3-A949-2703DEB2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992-40C0-4632-B13B-6F0AE892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2E5-4575-40FF-AFD3-D9D12874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6FA-34E8-4F41-8333-B44D5450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F1BF-A100-4298-BCDE-6789A7178B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E784-41E7-442B-90AB-6EA265172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февраля 202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1501-3075-4327-9309-ECD75D7C4E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февраля 2022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312840" y="914400"/>
          <a:ext cx="8778600" cy="628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914400"/>
                    <a:ext cx="877860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2-02-01T06:23:12Z</dcterms:modified>
  <cp:revision>135</cp:revision>
  <dc:subject/>
  <dc:title>Презентация PowerPoint</dc:title>
</cp:coreProperties>
</file>